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244-8FFF-4324-816A-A02647EA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AB2-9291-4E43-994B-FEB704BC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436-99A2-4A01-88E8-5D39AF6C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250-C848-4449-8740-7EAF5874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77F3-1F14-401E-B1C8-EC8F7F51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88E-39C7-4ABC-8E22-12A4893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ED0A-EF01-46B2-8224-A1828FC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B7F8-F388-4A21-9EB4-D243A54C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E49A-F1A0-41D6-A4D8-B66605A9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80C4-1D79-4A82-99E2-C41E0C81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498E-1193-419B-8FE9-32D44C9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0A0-6727-409B-8C1D-0D18FA54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6532-4B1E-40C3-A34B-6E29BD6C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49AD-4838-4A98-8022-02D42CE3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3FE7-7EEF-49D9-83B2-3162D9A7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FBB4-719D-4D39-BE00-C299CBF3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C6C7-D94E-4341-8FF0-617DB353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D1F-0FDA-4B13-9951-40853E4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FD4-D729-4C94-865F-D684430B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7F5-21CC-4EB0-B231-143B3665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BE6-F4AD-4443-BD9C-7538C127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74E-751A-44D9-9F2F-23C60BF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405-C9A0-4F11-8596-88BC19A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556-D1E4-428D-B2BD-D61D4E8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5479-3407-459F-957B-BB1EFB43F36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9AB4-334B-4EFF-BFAC-8630D72F76D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cc"/>
                </a:solidFill>
                <a:latin typeface="Times New Roman"/>
              </a:rPr>
              <a:t>Основи алгоритмізації та програмуванн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Wingdings"/>
                <a:ea typeface="Wingdings"/>
              </a:rPr>
              <a:t>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7100" spc="-1" strike="noStrike">
                <a:solidFill>
                  <a:srgbClr val="402000"/>
                </a:solidFill>
                <a:latin typeface="Times New Roman"/>
              </a:rPr>
              <a:t>Базові структури алгоритму</a:t>
            </a:r>
            <a:endParaRPr b="0" lang="en-US" sz="71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76609"/>
                </a:solidFill>
                <a:latin typeface="Wingdings"/>
                <a:ea typeface="Wingdings"/>
              </a:rPr>
              <a:t>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Цикл-дл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казівка повторення з параметром записується таким чином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для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:=x1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до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n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крок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Н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п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іло циклу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к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параметр циклу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х1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початкове значення параметру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нцеве значення параметру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рок зміни параметру (може набувати значення  +1 або -1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Цикл-для виконується т.ч.: параметру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і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присвоюється початкове значення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. Він порівнюється з кінцевим значенням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x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. Якщо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1&lt;=x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, то виконується цикл. Значення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і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автоматично змінюється на крок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і знову порівнюється зі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x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і т.д. Якщо отримуємо, що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x1&gt;x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, то цикл не виконується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76609"/>
                </a:solidFill>
                <a:latin typeface="Wingdings"/>
                <a:ea typeface="Wingdings"/>
              </a:rPr>
              <a:t>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Цикл-пок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9416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к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умов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п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іло циклу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к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кщо умова істинна то виконується тіло циклу. Виконання програми повертається до перевірки умови циклу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кщо умова хибна, то виконується вказівка, яка знаходиться після вказівки з передумовою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6" name="Object 6"/>
          <p:cNvGraphicFramePr/>
          <p:nvPr/>
        </p:nvGraphicFramePr>
        <p:xfrm>
          <a:off x="5029200" y="1828800"/>
          <a:ext cx="3429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828800"/>
                    <a:ext cx="3429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76609"/>
                </a:solidFill>
                <a:latin typeface="Wingdings"/>
                <a:ea typeface="Wingdings"/>
              </a:rPr>
              <a:t>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Цикл-д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Повторюват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іло циклу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умов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&gt;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початку виконується тіло циклу, а пізніше перевіряється умова. Якщо умова істинна, то виконання циклу завершується, якщо ні, то цикл виконується ще раз і т. д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5029200" y="1676520"/>
          <a:ext cx="37339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676520"/>
                    <a:ext cx="37339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2e50b"/>
                </a:solidFill>
                <a:latin typeface="Webdings"/>
                <a:ea typeface="Webdings"/>
              </a:rPr>
              <a:t></a:t>
            </a:r>
            <a:r>
              <a:rPr b="1" lang="uk-UA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402000"/>
                </a:solidFill>
                <a:latin typeface="Times New Roman"/>
              </a:rPr>
              <a:t>Повторення. Приклад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Приклад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числити сум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рших натуральних чисел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кладемо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блок-схем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і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2e50b"/>
                </a:solidFill>
                <a:latin typeface="Webdings"/>
                <a:ea typeface="Webdings"/>
              </a:rPr>
              <a:t></a:t>
            </a:r>
            <a:r>
              <a:rPr b="1" lang="uk-UA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402000"/>
                </a:solidFill>
                <a:latin typeface="Times New Roman"/>
              </a:rPr>
              <a:t>Повторення. Приклад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лг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ум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рг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, i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: ціл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з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ійсн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ч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вести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:=1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76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к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&lt;=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76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76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:=S+i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76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76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ивід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ін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6" name="Object 5"/>
          <p:cNvGraphicFramePr/>
          <p:nvPr/>
        </p:nvGraphicFramePr>
        <p:xfrm>
          <a:off x="4952880" y="1676520"/>
          <a:ext cx="3733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76520"/>
                    <a:ext cx="3733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2e50b"/>
                </a:solidFill>
                <a:latin typeface="Webdings"/>
                <a:ea typeface="Webdings"/>
              </a:rPr>
              <a:t></a:t>
            </a:r>
            <a:r>
              <a:rPr b="0" lang="uk-UA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402000"/>
                </a:solidFill>
                <a:latin typeface="Times New Roman"/>
              </a:rPr>
              <a:t>Повторення. Приклад. Завдання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2000"/>
                </a:solidFill>
                <a:latin typeface="Times New Roman"/>
              </a:rPr>
              <a:t>1. Який вид циклу виконується в даній задачі? Чому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5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2000"/>
                </a:solidFill>
                <a:latin typeface="Times New Roman"/>
              </a:rPr>
              <a:t>2. Визначіть початкові умови циклу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5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2000"/>
                </a:solidFill>
                <a:latin typeface="Times New Roman"/>
              </a:rPr>
              <a:t>3. Визначіть тіло циклу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5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2000"/>
                </a:solidFill>
                <a:latin typeface="Times New Roman"/>
              </a:rPr>
              <a:t>4. Визначіть керуючу змінну циклу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5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2000"/>
                </a:solidFill>
                <a:latin typeface="Times New Roman"/>
              </a:rPr>
              <a:t>5. Визначіть крок з яким змінюється лічильник циклу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5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2000"/>
                </a:solidFill>
                <a:latin typeface="Times New Roman"/>
              </a:rPr>
              <a:t>6. Яким буде результат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S,</a:t>
            </a:r>
            <a:r>
              <a:rPr b="0" lang="uk-UA" sz="2800" spc="-1" strike="noStrike">
                <a:solidFill>
                  <a:srgbClr val="402000"/>
                </a:solidFill>
                <a:latin typeface="Times New Roman"/>
              </a:rPr>
              <a:t> якщо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буде значення 2; 3; 5; 10; 100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76609"/>
                </a:solidFill>
                <a:latin typeface="Wingdings"/>
                <a:ea typeface="Wingdings"/>
              </a:rPr>
              <a:t>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Базов</a:t>
            </a:r>
            <a:r>
              <a:rPr b="1" lang="uk-UA" sz="4000" spc="-1" strike="noStrike">
                <a:solidFill>
                  <a:srgbClr val="402000"/>
                </a:solidFill>
                <a:latin typeface="Times New Roman"/>
              </a:rPr>
              <a:t>і структури алгоритмів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uk-UA" sz="2200" spc="-1" strike="noStrike">
                <a:solidFill>
                  <a:srgbClr val="402000"/>
                </a:solidFill>
                <a:latin typeface="Times New Roman"/>
              </a:rPr>
              <a:t>Базові структури алгоритмів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 –– це способи керування процесами обробки даних. Комбінуючи керуючі структури, можна складати алгоритми (програми) для різноманітних задач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Виділяють три базові алгоритмічні структури: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. </a:t>
            </a:r>
            <a:r>
              <a:rPr b="1" i="1" lang="uk-UA" sz="2600" spc="-1" strike="noStrike">
                <a:solidFill>
                  <a:srgbClr val="402000"/>
                </a:solidFill>
                <a:latin typeface="Times New Roman"/>
              </a:rPr>
              <a:t>Лінійні</a:t>
            </a:r>
            <a:r>
              <a:rPr b="0" i="1" lang="uk-UA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алгоритми (слідування)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2. </a:t>
            </a:r>
            <a:r>
              <a:rPr b="1" i="1" lang="uk-UA" sz="2600" spc="-1" strike="noStrike">
                <a:solidFill>
                  <a:srgbClr val="402000"/>
                </a:solidFill>
                <a:latin typeface="Times New Roman"/>
              </a:rPr>
              <a:t>Розгалуження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 (вибір)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402000"/>
                </a:solidFill>
                <a:latin typeface="Times New Roman"/>
              </a:rPr>
              <a:t>3. </a:t>
            </a:r>
            <a:r>
              <a:rPr b="1" i="1" lang="uk-UA" sz="2600" spc="-1" strike="noStrike">
                <a:solidFill>
                  <a:srgbClr val="402000"/>
                </a:solidFill>
                <a:latin typeface="Times New Roman"/>
              </a:rPr>
              <a:t>Повторення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 (цикл)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402000"/>
                </a:solidFill>
                <a:latin typeface="Times New Roman"/>
              </a:rPr>
              <a:t>Слідування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 –– це лінійна структура, яка являє послідовність команд, виконуваних поспіль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402000"/>
                </a:solidFill>
                <a:latin typeface="Times New Roman"/>
              </a:rPr>
              <a:t>Розгалуження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 –– це вид керуючої структури, що передбачає можливість вибору команд залежно від умови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402000"/>
                </a:solidFill>
                <a:latin typeface="Times New Roman"/>
              </a:rPr>
              <a:t>Цикл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 –– це процес, який виконується кілька разів в залежності від виконання умови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402000"/>
                </a:solidFill>
                <a:latin typeface="Times New Roman"/>
              </a:rPr>
              <a:t>Лінійна структу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2000"/>
                </a:solidFill>
                <a:latin typeface="Times New Roman"/>
              </a:rPr>
              <a:t>Лінійна структура має вигляд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лг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Коло_Круг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рг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ціл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з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, 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дійсн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ч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Вве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: = 2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 : =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Виві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Вивід 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ін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10080" y="18288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2e50b"/>
                </a:solidFill>
                <a:latin typeface="Webdings"/>
                <a:ea typeface="Webdings"/>
              </a:rPr>
              <a:t>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Завдання. Складіть блок-схему до даної задачі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2000"/>
                </a:solidFill>
                <a:latin typeface="Times New Roman"/>
              </a:rPr>
              <a:t>Сформулюйте умову задачі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76609"/>
                </a:solidFill>
                <a:latin typeface="Wingdings"/>
                <a:ea typeface="Wingdings"/>
              </a:rPr>
              <a:t></a:t>
            </a:r>
            <a:r>
              <a:rPr b="1" lang="uk-UA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402000"/>
                </a:solidFill>
                <a:latin typeface="Times New Roman"/>
              </a:rPr>
              <a:t>Розгалуженн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182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мовний оператор (опеpатоp умовного пеpеходу) служить для запису алгоритмiчної структури розгалуження, тобто дозволяє вибрати для виконання один з двох операторiв в залежностi вiд того виконується деяка умова чи нi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Iснує дві форми умовного опера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повн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- коротк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76609"/>
                </a:solidFill>
                <a:latin typeface="Wingdings"/>
                <a:ea typeface="Wingdings"/>
              </a:rPr>
              <a:t></a:t>
            </a:r>
            <a:r>
              <a:rPr b="1" lang="uk-UA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402000"/>
                </a:solidFill>
                <a:latin typeface="Times New Roman"/>
              </a:rPr>
              <a:t>Розгалуження в повній формі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Якщо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логічний вира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&lt;серія1&gt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інакше </a:t>
            </a: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серія2&gt;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вс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1295280" y="3352680"/>
          <a:ext cx="7239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7239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76609"/>
                </a:solidFill>
                <a:latin typeface="Wingdings"/>
                <a:ea typeface="Wingdings"/>
              </a:rPr>
              <a:t></a:t>
            </a:r>
            <a:r>
              <a:rPr b="1" lang="uk-UA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402000"/>
                </a:solidFill>
                <a:latin typeface="Times New Roman"/>
              </a:rPr>
              <a:t>Розгалуження в неповній формі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37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Якщо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логічний вираз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рія&gt;;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с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2514600" y="3048120"/>
          <a:ext cx="57913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57913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02000"/>
                </a:solidFill>
                <a:latin typeface="Times New Roman"/>
              </a:rPr>
              <a:t>Розгалуження. Приклад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2e50b"/>
                </a:solidFill>
                <a:latin typeface="Webdings"/>
                <a:ea typeface="Webdings"/>
              </a:rPr>
              <a:t>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кла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2" marL="338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Алг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Task_Max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2" marL="338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Арг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, b: ціл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2" marL="338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Рез max: ціл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2" marL="338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Поч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2" marL="338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Ввести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2" marL="338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Ввести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b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2" marL="338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якщо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&gt;b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max:=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інакше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max:=b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2" marL="338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Вивід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max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2" marL="338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Кін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вдання. Які дії виконає дана програма? Складіть блок-схему до прикладу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76609"/>
                </a:solidFill>
                <a:latin typeface="Wingdings"/>
                <a:ea typeface="Wingdings"/>
              </a:rPr>
              <a:t>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вторенн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924440"/>
          </a:xfrm>
          <a:prstGeom prst="rect">
            <a:avLst/>
          </a:prstGeom>
          <a:noFill/>
          <a:ln w="9360">
            <a:solidFill>
              <a:srgbClr val="ce9964"/>
            </a:solidFill>
            <a:miter/>
          </a:ln>
        </p:spPr>
        <p:txBody>
          <a:bodyPr anchor="t">
            <a:normAutofit/>
          </a:bodyPr>
          <a:p>
            <a:pPr lvl="2" marL="3808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Якщо обчислювальний процес містить </a:t>
            </a:r>
            <a:r>
              <a:rPr b="0" lang="uk-UA" sz="2100" spc="-1" strike="noStrike" u="sng">
                <a:solidFill>
                  <a:srgbClr val="000000"/>
                </a:solidFill>
                <a:uFillTx/>
                <a:latin typeface="Times New Roman"/>
              </a:rPr>
              <a:t>багаторазове 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обчислення за одними i тими ж математичними залежностями, але для різних значень  змінних, що входять до них, то його називають </a:t>
            </a:r>
            <a:r>
              <a:rPr b="1" i="1" lang="uk-UA" sz="2100" spc="-1" strike="noStrike">
                <a:solidFill>
                  <a:srgbClr val="000000"/>
                </a:solidFill>
                <a:latin typeface="Times New Roman"/>
              </a:rPr>
              <a:t>циклічним.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</a:rPr>
              <a:t>підготовка циклу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- задання початкових значень змінним циклу перед першим його проходом;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</a:rPr>
              <a:t>тіло циклу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- дії, які повторюються в циклі для різних значень змінних циклу;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</a:rPr>
              <a:t>модифiкацiю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(зміну) значень змінних циклу перед кожним новим його повторенням;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</a:rPr>
              <a:t>керування циклом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</a:rPr>
              <a:t> - перевірку умови продовження (або закінчення) циклу i перехід на початок тiла циклу, якщо виконується умова продовження циклу (або вихід з циклу при його закiнченнi).</a:t>
            </a:r>
            <a:endParaRPr b="0" lang="en-US" sz="21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76609"/>
                </a:solidFill>
                <a:latin typeface="Wingdings"/>
                <a:ea typeface="Wingdings"/>
              </a:rPr>
              <a:t>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Типи циклічних алгоритмі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рiзняють цикли iз заданим числом повторень (цикли з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параметром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) i цикли з напеpед невiдомим числом повторень (цикли з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передумов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та з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пiсляумов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 Цикл-дл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Цикл-д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380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Цикл-пок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8:41:04Z</dcterms:created>
  <dc:creator>Work</dc:creator>
  <dc:description/>
  <dc:language>en-US</dc:language>
  <cp:lastModifiedBy>Two_2</cp:lastModifiedBy>
  <dcterms:modified xsi:type="dcterms:W3CDTF">2014-09-21T15:55:59Z</dcterms:modified>
  <cp:revision>42</cp:revision>
  <dc:subject/>
  <dc:title>Основи алгоритмізації та програмування</dc:title>
</cp:coreProperties>
</file>